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EBE-D096-493B-A699-46D116E3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287-576C-4262-9400-FC67D25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07D-1739-4972-833D-E30983DC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E17-31A5-408D-967B-385D71F5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399-7C8D-4C48-9259-F63BB60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A89-53F8-46A0-B082-42D4941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48E-2FBF-4889-B348-06E1908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97A-E322-4B6A-95C8-B0417CA5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9D8-37AD-4A32-AE18-CBBC101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8FF-6330-4A78-A321-A52EC1E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45C-D66D-45CB-85ED-EBC1297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747-4869-4CDB-B7D6-8853B85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6339-84E1-48CD-9827-7A060FDED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mic Stri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106" r="0" b="0"/>
          <a:stretch/>
        </p:blipFill>
        <p:spPr>
          <a:xfrm>
            <a:off x="152280" y="2514600"/>
            <a:ext cx="8763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127" t="22917" r="61722" b="45834"/>
          <a:stretch/>
        </p:blipFill>
        <p:spPr>
          <a:xfrm>
            <a:off x="228600" y="0"/>
            <a:ext cx="4267080" cy="27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3127" t="57297" r="62501" b="12502"/>
          <a:stretch/>
        </p:blipFill>
        <p:spPr>
          <a:xfrm>
            <a:off x="4648320" y="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3127" t="19791" r="62501" b="50002"/>
          <a:stretch/>
        </p:blipFill>
        <p:spPr>
          <a:xfrm>
            <a:off x="228600" y="3254400"/>
            <a:ext cx="4191120" cy="291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3127" t="53128" r="62501" b="15627"/>
          <a:stretch/>
        </p:blipFill>
        <p:spPr>
          <a:xfrm>
            <a:off x="4724280" y="3352680"/>
            <a:ext cx="419112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2743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819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Principal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Principal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School Talent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44" t="26042" r="62501" b="42708"/>
          <a:stretch/>
        </p:blipFill>
        <p:spPr>
          <a:xfrm>
            <a:off x="0" y="152280"/>
            <a:ext cx="4267080" cy="284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344" t="60422" r="62501" b="8333"/>
          <a:stretch/>
        </p:blipFill>
        <p:spPr>
          <a:xfrm>
            <a:off x="4419720" y="1522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3127" t="36462" r="61722" b="33337"/>
          <a:stretch/>
        </p:blipFill>
        <p:spPr>
          <a:xfrm>
            <a:off x="1981080" y="3198960"/>
            <a:ext cx="5334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3127" t="29168" r="62501" b="40626"/>
          <a:stretch/>
        </p:blipFill>
        <p:spPr>
          <a:xfrm>
            <a:off x="685800" y="762120"/>
            <a:ext cx="7543800" cy="497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1563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127" t="28124" r="62501" b="40626"/>
          <a:stretch/>
        </p:blipFill>
        <p:spPr>
          <a:xfrm>
            <a:off x="380880" y="609480"/>
            <a:ext cx="7772400" cy="529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876320" cy="224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5120" y="3276720"/>
            <a:ext cx="2492280" cy="267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594320" y="3352680"/>
            <a:ext cx="12351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3:53:00Z</dcterms:created>
  <dc:creator>Patrick J. Mooney</dc:creator>
  <dc:description/>
  <dc:language>en-US</dc:language>
  <cp:lastModifiedBy>Patrick J. Mooney</cp:lastModifiedBy>
  <dcterms:modified xsi:type="dcterms:W3CDTF">2011-12-13T14:25:21Z</dcterms:modified>
  <cp:revision>6</cp:revision>
  <dc:subject/>
  <dc:title>Slide 1</dc:title>
</cp:coreProperties>
</file>